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D8DF-BD0D-4374-A92B-314D3AEA87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1267-7542-44ED-8889-ADDD1EDD2160}" type="slidenum">
              <a:rPr b="0" lang="ru-RU" sz="1200" spc="-1" strike="noStrike" u="sng">
                <a:solidFill>
                  <a:srgbClr val="000000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1F1-E2B3-42BA-97CB-8021843F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A4D-7CDC-4067-A99E-51892E6A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E3C-A192-4095-AE7A-ADE3900E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B64-DBA5-42D9-9A93-F793E183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F590-94FA-4091-BB8C-25C4180E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32E5-342F-4493-8F2D-E26A382B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C0D6-A603-44B0-965C-FC686F5B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DC1A-067F-4448-A547-2878FA2C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0C79-F321-4D24-8368-C0FCD7CA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DE11-ECEE-49C0-A165-23A902F6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E383-0533-48F1-B431-E64D5994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B88-18AF-432A-96D8-11271FF5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B701-C355-45AE-8F74-9616865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B682-ADCE-45B5-92AC-A61751AB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F965-0A1C-4892-8E16-67DE640F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6EC9-2888-41C1-99D1-382BF5D6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B3F8-C8BE-44DD-9DA4-B77CEC9E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FBE-1CC9-4DD0-A8A4-E6322527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AA8-5C6F-404A-979E-2F61BC05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235-6963-40BA-ADC2-C30FF356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C1B-E646-4B2F-86DB-85336DCB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99C-E059-4F01-8633-F1FFA546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A6F-96A1-472C-B667-F884EAAA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76B-8774-41AE-BE22-8B878282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1CA1-72C3-44FE-8F0E-86E33DD15D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A3B2-11E4-411F-BDEB-224C5D1CAE7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htmlbook.ru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ведение в язык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9564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резгунова Инесса Викторо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афедра информационных технологий в образовании РИВ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таксис язы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ложение тег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80880" y="3962520"/>
            <a:ext cx="3962520" cy="20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т текст набран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B&gt;&lt;I&gt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ужирным курсивом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I&gt;&lt;/B&gt;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3200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876920" y="3962520"/>
            <a:ext cx="396216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т текст набран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полужирным курсивом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876920" y="32004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ображение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таксис язы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рибуты (параметры) уточняют действие тег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ждый тег имеет свой набор допустимых атрибу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рибуту присваивается заданное или произвольное знач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парных тегов атрибуты указывают в открывающем тег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но использовать несколько атрибутов, разделенных пробел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таксис язы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2492280"/>
            <a:ext cx="91440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&lt;IMG SRC=“../../image/ris.gif”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IDTH=100 HEIGHT=200&gt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таксис язы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гистр имен тегов и атрибутов не имеет зна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MG&gt; = &lt;Img&gt; = &lt;IMg&gt; = &lt;im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личие и количество пробелов между тегом и текстом или тегом и тегом не имеет зна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&gt;&lt;I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ужирный курси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I&gt;&lt;/B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&gt;&lt;I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лужирный курси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I&gt;&lt;/B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лужирный курси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I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таксис язы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обходимо соблюдать порядок вложенности тег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219320" y="2971800"/>
            <a:ext cx="7924680" cy="8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B&gt;&lt;I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жирный курси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I&gt;&lt;/B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B&gt;&lt;I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жирный курси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B&gt;&lt;/I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1219320" y="3581280"/>
            <a:ext cx="6172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90720" y="48769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66680" y="380988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5200" indent="-295200">
              <a:lnSpc>
                <a:spcPct val="7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большинстве случаев атрибуты необязательны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295200" indent="-295200">
              <a:lnSpc>
                <a:spcPct val="7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чения атрибутов заключают в кавычки 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576360">
              <a:lnSpc>
                <a:spcPct val="75000"/>
              </a:lnSpc>
              <a:spcBef>
                <a:spcPts val="1749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правило, допустимо отсутствие кавычек, если в значении атрибута нет пробелов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таксис язы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0880" y="259092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8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438280" y="2133720"/>
            <a:ext cx="55627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претирует код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а-браузер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раузеры не проверяют правильность написания код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авильно записанный код браузером игнорируется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ерсии язы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рсии язык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атываются консорциумом Всемирной паутины (World Wide Web Consortium, W3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хнологий (1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9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2.09.1995 – HTML 2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4.01.1997 – HTML 3.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8.12.1997 – HTML 4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12.1999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4.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10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01.11.2016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5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руктура документ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04920" y="2025720"/>
            <a:ext cx="18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914400" y="2514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HTML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914400" y="6338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HTML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676520" y="3206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HEAD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676520" y="4343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HEAD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752480" y="4952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752480" y="5791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3428640" y="2819520"/>
            <a:ext cx="5258160" cy="838080"/>
            <a:chOff x="3428640" y="2819520"/>
            <a:chExt cx="5258160" cy="838080"/>
          </a:xfrm>
        </p:grpSpPr>
        <p:sp>
          <p:nvSpPr>
            <p:cNvPr id="168" name="Text Box 11"/>
            <p:cNvSpPr/>
            <p:nvPr/>
          </p:nvSpPr>
          <p:spPr>
            <a:xfrm>
              <a:off x="5257800" y="28195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Служебная часть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 flipH="1">
              <a:off x="3428640" y="304812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grpSp>
        <p:nvGrpSpPr>
          <p:cNvPr id="170" name="Group 17"/>
          <p:cNvGrpSpPr/>
          <p:nvPr/>
        </p:nvGrpSpPr>
        <p:grpSpPr>
          <a:xfrm>
            <a:off x="3276360" y="4724280"/>
            <a:ext cx="5410440" cy="838440"/>
            <a:chOff x="3276360" y="4724280"/>
            <a:chExt cx="5410440" cy="838440"/>
          </a:xfrm>
        </p:grpSpPr>
        <p:sp>
          <p:nvSpPr>
            <p:cNvPr id="171" name="Text Box 12"/>
            <p:cNvSpPr/>
            <p:nvPr/>
          </p:nvSpPr>
          <p:spPr>
            <a:xfrm>
              <a:off x="5257800" y="472428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Содержательная часть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72" name="Line 14"/>
            <p:cNvSpPr/>
            <p:nvPr/>
          </p:nvSpPr>
          <p:spPr>
            <a:xfrm flipH="1">
              <a:off x="3276360" y="4952880"/>
              <a:ext cx="1981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173" name="Text Box 5"/>
          <p:cNvSpPr/>
          <p:nvPr/>
        </p:nvSpPr>
        <p:spPr>
          <a:xfrm>
            <a:off x="914400" y="191916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!DOCTYPE html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74" name="Group 18"/>
          <p:cNvGrpSpPr/>
          <p:nvPr/>
        </p:nvGrpSpPr>
        <p:grpSpPr>
          <a:xfrm>
            <a:off x="3886200" y="1863720"/>
            <a:ext cx="5127480" cy="825480"/>
            <a:chOff x="3886200" y="1863720"/>
            <a:chExt cx="5127480" cy="825480"/>
          </a:xfrm>
        </p:grpSpPr>
        <p:sp>
          <p:nvSpPr>
            <p:cNvPr id="175" name="Text Box 11"/>
            <p:cNvSpPr/>
            <p:nvPr/>
          </p:nvSpPr>
          <p:spPr>
            <a:xfrm>
              <a:off x="5584680" y="186372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Указание типа документа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H="1">
              <a:off x="3886200" y="2279520"/>
              <a:ext cx="169848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лужебная часть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кумент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TITLE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ределяет текст заголовк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страниц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68360" y="3933720"/>
            <a:ext cx="8534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HEAD&gt;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TITLE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спубликанский институт высшей школ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TITLE&gt;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HEAD&gt;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трибуты тег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&lt;BODY&gt;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В основном имеют отношение к физическому форматированию текста на странице, поэтому не рекомендую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GCOLO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цвет фона доку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ACKGROUN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фоновое изобра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X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цвет текс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N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цвет непросмотренной ссыл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LIN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цвет просмотренной ссыл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IN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цвет просматриваемой ссыл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щие сведен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, назначение, верси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нтаксис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едства создани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к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вет 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ы указания цвет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вание цве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хем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G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звания цвето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609480" y="2133720"/>
          <a:ext cx="777240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777240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хем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G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0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G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ree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lu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асный-Зеленый-Си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нсивность компоненты записывается двузначным шестнадцатеричным числ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0 1 2 3 4  5 6 7 8 9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(10) B(11) C(12) D(13) E(14) F(1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37184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91" name="Group 11"/>
          <p:cNvGrpSpPr/>
          <p:nvPr/>
        </p:nvGrpSpPr>
        <p:grpSpPr>
          <a:xfrm>
            <a:off x="1908000" y="5084640"/>
            <a:ext cx="6477120" cy="610920"/>
            <a:chOff x="1908000" y="5084640"/>
            <a:chExt cx="6477120" cy="610920"/>
          </a:xfrm>
        </p:grpSpPr>
        <p:sp>
          <p:nvSpPr>
            <p:cNvPr id="192" name="Text Box 5"/>
            <p:cNvSpPr/>
            <p:nvPr/>
          </p:nvSpPr>
          <p:spPr>
            <a:xfrm>
              <a:off x="1908000" y="5084640"/>
              <a:ext cx="647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26720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graphicFrame>
          <p:nvGraphicFramePr>
            <p:cNvPr id="193" name="Object 6"/>
            <p:cNvGraphicFramePr/>
            <p:nvPr/>
          </p:nvGraphicFramePr>
          <p:xfrm>
            <a:off x="4679640" y="5216400"/>
            <a:ext cx="609840" cy="47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79640" y="5216400"/>
                      <a:ext cx="609840" cy="47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трибуты тег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&lt;BODY&gt;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990720" y="220968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BODY BGCOLOR=MAROON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=“#256AC1”&gt;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1523880" y="5105520"/>
          <a:ext cx="605016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105520"/>
                    <a:ext cx="60501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метка тек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8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ыв строки – те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038480" y="4419720"/>
            <a:ext cx="510552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Текст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можно разбить на 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g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троки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произвольно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3505320"/>
            <a:ext cx="39625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&lt;BODY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Текст 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</a:rPr>
              <a:t>&lt;BR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можно разбить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</a:rPr>
              <a:t>&lt;BR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g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троки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произвольно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&lt;/BODY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286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4419720" y="32004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ображение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метка тек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8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вый абзац – тег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P&gt;…&lt;/P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4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рибут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выравнивани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4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LEFT, RIGHT, CENTER, JUSTIFY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4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е рекомендуе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-76320" y="385596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50920" y="4118040"/>
            <a:ext cx="363672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g"/>
              </a:rPr>
              <a:t>&lt;BODY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g"/>
              </a:rPr>
              <a:t>&lt;P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g"/>
              </a:rPr>
              <a:t>Первый абзац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g"/>
              </a:rPr>
              <a:t>&lt;/P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g"/>
              </a:rPr>
              <a:t>&lt;P ALIGN=CENTER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g"/>
              </a:rPr>
              <a:t>Второй абзац</a:t>
            </a:r>
            <a:r>
              <a:rPr b="0" lang="en-US" sz="2400" spc="-1" strike="noStrike">
                <a:solidFill>
                  <a:srgbClr val="000000"/>
                </a:solidFill>
                <a:latin typeface="Ariag"/>
              </a:rPr>
              <a:t>&lt;/P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g"/>
              </a:rPr>
              <a:t>&lt;/BODY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0" y="38559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856040" y="38559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ображение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4716360" y="4375080"/>
            <a:ext cx="4046760" cy="2482920"/>
            <a:chOff x="4716360" y="4375080"/>
            <a:chExt cx="4046760" cy="2482920"/>
          </a:xfrm>
        </p:grpSpPr>
        <p:sp>
          <p:nvSpPr>
            <p:cNvPr id="213" name="Rectangle 10"/>
            <p:cNvSpPr/>
            <p:nvPr/>
          </p:nvSpPr>
          <p:spPr>
            <a:xfrm>
              <a:off x="4716360" y="4375080"/>
              <a:ext cx="4046760" cy="248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graphicFrame>
          <p:nvGraphicFramePr>
            <p:cNvPr id="214" name="Object 9"/>
            <p:cNvGraphicFramePr/>
            <p:nvPr/>
          </p:nvGraphicFramePr>
          <p:xfrm>
            <a:off x="4860720" y="4593960"/>
            <a:ext cx="3757680" cy="204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60720" y="4593960"/>
                      <a:ext cx="3757680" cy="204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метка тек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8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10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головки – тег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H1&gt;…&lt;/H1&gt;, &lt;H2&gt;…&lt;/H2&gt;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&lt;H6&gt;…&lt;/H6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рибут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выравнивани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LEFT, RIGHT, CENTER, JUSTIFY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е рекомендуе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метка тек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8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ризонтальные линии – тег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HR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рибу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5680" indent="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выравнивание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LEFT, RIGHT, CENTER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5680" indent="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TH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ирин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5680" indent="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лщин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5680" indent="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OR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вет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5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е рекомендую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0" y="519120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5477040"/>
            <a:ext cx="518148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g"/>
              </a:rPr>
              <a:t>Часть1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g"/>
              </a:rPr>
              <a:t>&lt;HR COLOR=RED SIZE=4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g"/>
              </a:rPr>
              <a:t>Часть2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0" y="5191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5292720" y="5064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ображение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24" name="Group 14"/>
          <p:cNvGrpSpPr/>
          <p:nvPr/>
        </p:nvGrpSpPr>
        <p:grpSpPr>
          <a:xfrm>
            <a:off x="4191120" y="5575320"/>
            <a:ext cx="4419360" cy="1219320"/>
            <a:chOff x="4191120" y="5575320"/>
            <a:chExt cx="4419360" cy="1219320"/>
          </a:xfrm>
        </p:grpSpPr>
        <p:sp>
          <p:nvSpPr>
            <p:cNvPr id="225" name="Rectangle 13"/>
            <p:cNvSpPr/>
            <p:nvPr/>
          </p:nvSpPr>
          <p:spPr>
            <a:xfrm>
              <a:off x="4191120" y="5575320"/>
              <a:ext cx="441936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graphicFrame>
          <p:nvGraphicFramePr>
            <p:cNvPr id="226" name="Object 12"/>
            <p:cNvGraphicFramePr/>
            <p:nvPr/>
          </p:nvGraphicFramePr>
          <p:xfrm>
            <a:off x="4495680" y="5727960"/>
            <a:ext cx="3934080" cy="106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5727960"/>
                      <a:ext cx="39340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изическое форматирование тек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ги физического форматирования: формат отображения шрифта в графических браузер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жирный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B&gt;…&lt;/B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урсив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I&gt;…&lt;/I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черкнутый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S&gt;…&l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жний индекс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UB&gt;…&lt;/SUB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рхний индекс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…&lt;/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огическое форматирование тек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ги логического форматирования обозначают структурные типы своих текстовых фрагмент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итата (отметка цитат, сносок)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CITE&gt;…&lt;/CITE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ычно выводится курсив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даленный текст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DEL CITE=”URL” DATETIM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=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ата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даления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”&gt;…&lt;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L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ычно отображается перечеркнутым текс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 (HyperText Markup Language)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зык гипертекстовой размет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уется для создания веб-страни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огическое форматирование тек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ение - &l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F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&gt;…&lt;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F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ычно отображается курсив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деление важных фрагментов текста - &l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&gt;…&lt;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ычно отображается курсив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деление очень важных фрагментов текста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TRONG&gt;…&lt;/STRONG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ычно отображается полужирным шрифт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рафика 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тавка графического изображения: те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IMG&gt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непарны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ый атрибу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казывает адрес графического фай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-228600" y="502920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066680" y="54100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IMG SRC=“../image/ris.gif”&gt;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дресация 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320" y="1916280"/>
            <a:ext cx="870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солютная адресац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:\site\image\ris.gi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ситель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ресац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.ht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2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/ris.g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.ht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2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/images/ris.g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5022720" y="2266920"/>
            <a:ext cx="3971880" cy="3616200"/>
            <a:chOff x="5022720" y="2266920"/>
            <a:chExt cx="3971880" cy="3616200"/>
          </a:xfrm>
        </p:grpSpPr>
        <p:sp>
          <p:nvSpPr>
            <p:cNvPr id="241" name="Text Box 5"/>
            <p:cNvSpPr/>
            <p:nvPr/>
          </p:nvSpPr>
          <p:spPr>
            <a:xfrm>
              <a:off x="5047920" y="2266920"/>
              <a:ext cx="1387440" cy="48888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ahoma"/>
                  <a:ea typeface="宋体"/>
                </a:rPr>
                <a:t>site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42" name="Text Box 6"/>
            <p:cNvSpPr/>
            <p:nvPr/>
          </p:nvSpPr>
          <p:spPr>
            <a:xfrm>
              <a:off x="5714640" y="5391000"/>
              <a:ext cx="1389240" cy="492120"/>
            </a:xfrm>
            <a:prstGeom prst="rect">
              <a:avLst/>
            </a:prstGeom>
            <a:solidFill>
              <a:srgbClr val="8e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images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7607160" y="4184640"/>
              <a:ext cx="138744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page.htm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7519680" y="5389560"/>
              <a:ext cx="138744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ris.gif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 flipH="1">
              <a:off x="5325840" y="2770200"/>
              <a:ext cx="9360" cy="28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46" name="Line 14"/>
            <p:cNvSpPr/>
            <p:nvPr/>
          </p:nvSpPr>
          <p:spPr>
            <a:xfrm>
              <a:off x="5333760" y="44416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47" name="Line 15"/>
            <p:cNvSpPr/>
            <p:nvPr/>
          </p:nvSpPr>
          <p:spPr>
            <a:xfrm>
              <a:off x="5335200" y="5667480"/>
              <a:ext cx="36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48" name="Line 17"/>
            <p:cNvSpPr/>
            <p:nvPr/>
          </p:nvSpPr>
          <p:spPr>
            <a:xfrm>
              <a:off x="7151400" y="4429080"/>
              <a:ext cx="415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>
              <a:off x="7110000" y="5667480"/>
              <a:ext cx="4003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50" name="Text Box 19"/>
            <p:cNvSpPr/>
            <p:nvPr/>
          </p:nvSpPr>
          <p:spPr>
            <a:xfrm>
              <a:off x="5711400" y="2914560"/>
              <a:ext cx="138780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index.htm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51" name="Line 21"/>
            <p:cNvSpPr/>
            <p:nvPr/>
          </p:nvSpPr>
          <p:spPr>
            <a:xfrm>
              <a:off x="5335200" y="32018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52" name="Text Box 5"/>
            <p:cNvSpPr/>
            <p:nvPr/>
          </p:nvSpPr>
          <p:spPr>
            <a:xfrm>
              <a:off x="5022720" y="2266920"/>
              <a:ext cx="1387440" cy="488880"/>
            </a:xfrm>
            <a:prstGeom prst="rect">
              <a:avLst/>
            </a:prstGeom>
            <a:solidFill>
              <a:srgbClr val="8e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site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>
              <a:off x="5751360" y="4195800"/>
              <a:ext cx="1388880" cy="492120"/>
            </a:xfrm>
            <a:prstGeom prst="rect">
              <a:avLst/>
            </a:prstGeom>
            <a:solidFill>
              <a:srgbClr val="8e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html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раф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рибуты тег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M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TH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IGHT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ширина и высота в пикселях или процентах от размеров экра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ьтернативный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IG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равнивание текста относительно изоб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OR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лщина рамки вокруг изображения в пиксел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пустые поля вокруг изображения в пиксел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6" name="Группа 3"/>
          <p:cNvGrpSpPr/>
          <p:nvPr/>
        </p:nvGrpSpPr>
        <p:grpSpPr>
          <a:xfrm>
            <a:off x="612720" y="4005360"/>
            <a:ext cx="934920" cy="2481120"/>
            <a:chOff x="612720" y="4005360"/>
            <a:chExt cx="934920" cy="2481120"/>
          </a:xfrm>
        </p:grpSpPr>
        <p:sp>
          <p:nvSpPr>
            <p:cNvPr id="257" name="Левая фигурная скобка 1"/>
            <p:cNvSpPr/>
            <p:nvPr/>
          </p:nvSpPr>
          <p:spPr>
            <a:xfrm>
              <a:off x="1115640" y="4077360"/>
              <a:ext cx="432000" cy="2088720"/>
            </a:xfrm>
            <a:custGeom>
              <a:avLst/>
              <a:gdLst>
                <a:gd name="textAreaLeft" fmla="*/ 276120 w 432000"/>
                <a:gd name="textAreaRight" fmla="*/ 432360 w 432000"/>
                <a:gd name="textAreaTop" fmla="*/ 99000 h 2088720"/>
                <a:gd name="textAreaBottom" fmla="*/ 1989720 h 20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38"/>
                    <a:pt x="10800" y="3275"/>
                  </a:cubicBezTo>
                  <a:lnTo>
                    <a:pt x="10800" y="7244"/>
                  </a:lnTo>
                  <a:cubicBezTo>
                    <a:pt x="10800" y="8882"/>
                    <a:pt x="5400" y="10519"/>
                    <a:pt x="0" y="10519"/>
                  </a:cubicBezTo>
                  <a:cubicBezTo>
                    <a:pt x="5400" y="10519"/>
                    <a:pt x="10800" y="12157"/>
                    <a:pt x="10800" y="13794"/>
                  </a:cubicBezTo>
                  <a:lnTo>
                    <a:pt x="10800" y="18325"/>
                  </a:lnTo>
                  <a:cubicBezTo>
                    <a:pt x="10800" y="19963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58" name="TextBox 2"/>
            <p:cNvSpPr/>
            <p:nvPr/>
          </p:nvSpPr>
          <p:spPr>
            <a:xfrm rot="5400000">
              <a:off x="-428400" y="5046480"/>
              <a:ext cx="24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ahoma"/>
                </a:rPr>
                <a:t>Не рекомендуется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раф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ьтернативный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457200" y="25909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IMG SRC=“../../image/ris.gif”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=“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-моему, это лайк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&gt;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3772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раузер отображает графику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800600" y="37720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раузер не отображает график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aphicFrame>
        <p:nvGraphicFramePr>
          <p:cNvPr id="264" name="Object 7"/>
          <p:cNvGraphicFramePr/>
          <p:nvPr/>
        </p:nvGraphicFramePr>
        <p:xfrm>
          <a:off x="457200" y="4952880"/>
          <a:ext cx="23605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52880"/>
                    <a:ext cx="23605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8"/>
          <p:cNvGraphicFramePr/>
          <p:nvPr/>
        </p:nvGraphicFramePr>
        <p:xfrm>
          <a:off x="5715000" y="4876920"/>
          <a:ext cx="1619280" cy="16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4876920"/>
                    <a:ext cx="161928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иперссыл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казатель ссылки – те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A&gt;…&lt;/A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ресная часть ссылки – атрибу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REF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г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A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80880" y="3809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тите ознакомиться с моей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 HREF=“biography.html”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иографие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A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80880" y="4724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йдите на сайт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 HREF=“http://www.nihe.bsu.by”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ИВ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A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80880" y="5791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 HREF=“mailto:me@nihe.bsu.by”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шите мне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A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иперссыл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казатель ссылки - изображ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447920" y="3733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MG SRC=“../../image/ris.gif”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676520" y="30481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A HREF=“index.html”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1752480" y="4419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A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л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2133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BLE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57200" y="6400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TABLE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10666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R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066680" y="3962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TR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1066680" y="4495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R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066680" y="5943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TR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2057400" y="2971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H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головок столбца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TH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2057400" y="3505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H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головок столбц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&lt;/TH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88" name="Text Box 22"/>
          <p:cNvSpPr/>
          <p:nvPr/>
        </p:nvSpPr>
        <p:spPr>
          <a:xfrm>
            <a:off x="2057400" y="4952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D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держимое ячейки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TD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205740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D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держимое ячейки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TD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л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1" name="Group 14"/>
          <p:cNvGrpSpPr/>
          <p:nvPr/>
        </p:nvGrpSpPr>
        <p:grpSpPr>
          <a:xfrm>
            <a:off x="457200" y="2133720"/>
            <a:ext cx="5791320" cy="3682080"/>
            <a:chOff x="457200" y="2133720"/>
            <a:chExt cx="5791320" cy="3682080"/>
          </a:xfrm>
        </p:grpSpPr>
        <p:sp>
          <p:nvSpPr>
            <p:cNvPr id="292" name="Text Box 3"/>
            <p:cNvSpPr/>
            <p:nvPr/>
          </p:nvSpPr>
          <p:spPr>
            <a:xfrm>
              <a:off x="457200" y="2133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TABLE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ORDER&gt;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93" name="Text Box 4"/>
            <p:cNvSpPr/>
            <p:nvPr/>
          </p:nvSpPr>
          <p:spPr>
            <a:xfrm>
              <a:off x="457200" y="51188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/TABLE&gt;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94" name="Text Box 5"/>
            <p:cNvSpPr/>
            <p:nvPr/>
          </p:nvSpPr>
          <p:spPr>
            <a:xfrm>
              <a:off x="457200" y="24544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TR&gt;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95" name="Text Box 6"/>
            <p:cNvSpPr/>
            <p:nvPr/>
          </p:nvSpPr>
          <p:spPr>
            <a:xfrm>
              <a:off x="457200" y="3413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/TR&gt;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96" name="Text Box 7"/>
            <p:cNvSpPr/>
            <p:nvPr/>
          </p:nvSpPr>
          <p:spPr>
            <a:xfrm>
              <a:off x="457200" y="37875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TR&gt;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97" name="Text Box 8"/>
            <p:cNvSpPr/>
            <p:nvPr/>
          </p:nvSpPr>
          <p:spPr>
            <a:xfrm>
              <a:off x="457200" y="4799880"/>
              <a:ext cx="1295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/TR&gt;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457200" y="272088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TH&gt;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заголовок столбца 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/TH&gt;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299" name="Text Box 10"/>
            <p:cNvSpPr/>
            <p:nvPr/>
          </p:nvSpPr>
          <p:spPr>
            <a:xfrm>
              <a:off x="457200" y="309348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TH&gt;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заголовок столбца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&lt;/TH&gt;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>
              <a:off x="457200" y="410652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TD&gt;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содержимое ячейки 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/TD&gt;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01" name="Text Box 12"/>
            <p:cNvSpPr/>
            <p:nvPr/>
          </p:nvSpPr>
          <p:spPr>
            <a:xfrm>
              <a:off x="457200" y="447984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TD&gt;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содержимое ячейки 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&lt;/TD&gt;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graphicFrame>
        <p:nvGraphicFramePr>
          <p:cNvPr id="302" name="Object 15"/>
          <p:cNvGraphicFramePr/>
          <p:nvPr/>
        </p:nvGraphicFramePr>
        <p:xfrm>
          <a:off x="2057400" y="5430960"/>
          <a:ext cx="7086600" cy="14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430960"/>
                    <a:ext cx="708660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л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головок таблицы - те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CAPTION&gt;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 тег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TABLE&gt;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66F7-E1B9-49CC-9C46-EFA13886417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еб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траница с точки зрения файловой структу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2227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докумен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.htm, .htm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одержи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tml-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од - команды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раузеру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, как отображать тот или иной элемен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айлы мультимеди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ные компонен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л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GCOLOR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 ф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трибуты тег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BLE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WIDTH=шири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BORDER=ширина границы вокруг таблиц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иль внешней границ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=стиль внутренних гран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CELLSPACING=расстояние между ячейк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CELLPADDING=расстояние между границей ячейки и ее содержи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дрес фонового изображ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BORDERCOLO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=цвет гран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т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ALIG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=выравнивание таблиц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" name="Группа 3"/>
          <p:cNvGrpSpPr/>
          <p:nvPr/>
        </p:nvGrpSpPr>
        <p:grpSpPr>
          <a:xfrm>
            <a:off x="176760" y="4869000"/>
            <a:ext cx="1299600" cy="1655640"/>
            <a:chOff x="176760" y="4869000"/>
            <a:chExt cx="1299600" cy="1655640"/>
          </a:xfrm>
        </p:grpSpPr>
        <p:sp>
          <p:nvSpPr>
            <p:cNvPr id="309" name="Левая фигурная скобка 1"/>
            <p:cNvSpPr/>
            <p:nvPr/>
          </p:nvSpPr>
          <p:spPr>
            <a:xfrm>
              <a:off x="1043640" y="4916880"/>
              <a:ext cx="432720" cy="1393560"/>
            </a:xfrm>
            <a:custGeom>
              <a:avLst/>
              <a:gdLst>
                <a:gd name="textAreaLeft" fmla="*/ 276480 w 432720"/>
                <a:gd name="textAreaRight" fmla="*/ 433080 w 432720"/>
                <a:gd name="textAreaTop" fmla="*/ 65880 h 1393560"/>
                <a:gd name="textAreaBottom" fmla="*/ 1327680 h 139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38"/>
                    <a:pt x="10800" y="3275"/>
                  </a:cubicBezTo>
                  <a:lnTo>
                    <a:pt x="10800" y="7244"/>
                  </a:lnTo>
                  <a:cubicBezTo>
                    <a:pt x="10800" y="8882"/>
                    <a:pt x="5400" y="10519"/>
                    <a:pt x="0" y="10519"/>
                  </a:cubicBezTo>
                  <a:cubicBezTo>
                    <a:pt x="5400" y="10519"/>
                    <a:pt x="10800" y="12157"/>
                    <a:pt x="10800" y="13794"/>
                  </a:cubicBezTo>
                  <a:lnTo>
                    <a:pt x="10800" y="18325"/>
                  </a:lnTo>
                  <a:cubicBezTo>
                    <a:pt x="10800" y="19963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310" name="TextBox 2"/>
            <p:cNvSpPr/>
            <p:nvPr/>
          </p:nvSpPr>
          <p:spPr>
            <a:xfrm rot="5400000">
              <a:off x="-208080" y="5253840"/>
              <a:ext cx="165564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ahoma"/>
                </a:rPr>
                <a:t>Не </a:t>
              </a:r>
              <a:r>
                <a:rPr b="0" lang="ru-RU" sz="1600" spc="-1" strike="noStrike">
                  <a:solidFill>
                    <a:srgbClr val="ff0000"/>
                  </a:solidFill>
                  <a:latin typeface="Tahoma"/>
                </a:rPr>
                <a:t>рекомендуется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3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ментар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!--…--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кст комментария не отображается в браузе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!-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ментари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-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!-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ментарий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нимающ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сколько стро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-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мментар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-189000" y="429264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ые теги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ги семантической размет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 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головок страницы или разд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OOTER&gt;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одвал страницы или разд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NAV&gt;  -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вигационная пан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CTION&gt;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раздел страниц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RTICLE&gt; 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зависимая часть страницы: статья, новость, запись блога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SIDE&gt; 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полнительный контент, боковая пан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IGURE&gt; 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ппировка элем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IME&gt;  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IDEO&gt;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UDIO&g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вставка видео и ауди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ANVAS&gt; 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исование, трансформация изображений при помощи Java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лужебная часть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кумент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г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META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исывают свойства страниц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ждый те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META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меет два атрибут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514440">
              <a:spcBef>
                <a:spcPts val="14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AM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QUIV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514440">
              <a:spcBef>
                <a:spcPts val="14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трибуты тего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&lt;META&gt;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г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META&gt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атрибутом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AM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сновном содержат информацию для поисковых маш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г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META&gt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атрибутом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TT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QUIV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основном содержат информацию для брауз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ения атрибут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висят от значений атрибуто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AM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TT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QUI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трибуты тего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&lt;META&gt;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трибу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держит краткое описание сайт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80880" y="533412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META NAME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=”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DESCRIPTION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CONTENT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=”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йт, предназначенный для любителей тенниса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”&gt;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трибуты тего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&lt;META&gt;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KEY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трибу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держит ключевые слова (через запятую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4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80880" y="53341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&lt;META NAME=”KEYWORDS” CONTENT=”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р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ннис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rt, tennis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”&gt;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трибуты тего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&lt;META&gt;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I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рибу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казывает количество дней (от 1 до 30), по прошествии которых необходимо переиндексировать ресурс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4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80880" y="5911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&lt;META NAME=”REVISIT” CONTENT=”7 days”&gt;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трибуты тего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&lt;META&gt;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ения атрибут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г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META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UTHO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трибу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держит имя автора ресур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4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55627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&lt;META NAME=”AUTHOR” CONTENT=”John Smith”&gt;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трибуты тего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&lt;META&gt;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рибу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держит название организации (имя человека), являющейся владельцем авторских прав на ресур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4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0" y="5562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&lt;META NAME=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PYRIGHT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” CONTENT=”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ИВШ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”&gt;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-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куме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кумен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ет содержат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5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кст веб-страницы и описание его структур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5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ти к мультимедийным объект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5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перссыл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5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ание табли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5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ные компоненты или пути к ни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трибуты тего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&lt;META&gt;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QUIV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FRES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рибу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дает количество секунд, через которые необходимо перезагружать страницу или количество секунд, через которое необходим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йти по указанному адрес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04920" y="518148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g"/>
                <a:ea typeface="Times New Roman"/>
              </a:rPr>
              <a:t>&lt;META HTTP-EQUIV =”REFRESH”</a:t>
            </a:r>
            <a:r>
              <a:rPr b="0" lang="ru-RU" sz="2400" spc="-1" strike="noStrike">
                <a:solidFill>
                  <a:srgbClr val="000000"/>
                </a:solidFill>
                <a:latin typeface="Aria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g"/>
                <a:ea typeface="Times New Roman"/>
              </a:rPr>
              <a:t>CONTENT=”</a:t>
            </a:r>
            <a:r>
              <a:rPr b="0" lang="ru-RU" sz="2400" spc="-1" strike="noStrike">
                <a:solidFill>
                  <a:srgbClr val="000000"/>
                </a:solidFill>
                <a:latin typeface="Ariag"/>
                <a:ea typeface="Times New Roman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Ariag"/>
                <a:ea typeface="Times New Roman"/>
              </a:rPr>
              <a:t>”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g"/>
                <a:ea typeface="Times New Roman"/>
              </a:rPr>
              <a:t>&lt;META HTTP-EQUIV =”REFRESH”</a:t>
            </a:r>
            <a:r>
              <a:rPr b="0" lang="ru-RU" sz="2400" spc="-1" strike="noStrike">
                <a:solidFill>
                  <a:srgbClr val="000000"/>
                </a:solidFill>
                <a:latin typeface="Aria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g"/>
                <a:ea typeface="Times New Roman"/>
              </a:rPr>
              <a:t>CONTENT=”</a:t>
            </a:r>
            <a:r>
              <a:rPr b="0" lang="ru-RU" sz="2400" spc="-1" strike="noStrike">
                <a:solidFill>
                  <a:srgbClr val="000000"/>
                </a:solidFill>
                <a:latin typeface="Ariag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g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g"/>
                <a:ea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g"/>
                <a:ea typeface="Times New Roman"/>
              </a:rPr>
              <a:t>URL=”http://www.new.by</a:t>
            </a:r>
            <a:r>
              <a:rPr b="0" lang="en-US" sz="2400" spc="-1" strike="noStrike">
                <a:solidFill>
                  <a:srgbClr val="000000"/>
                </a:solidFill>
                <a:latin typeface="Ariag"/>
                <a:ea typeface="Times New Roman"/>
              </a:rPr>
              <a:t>”&gt;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трибуты тего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&lt;META&gt;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QUIV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IRE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рибу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казывает дату, после которой необходимо сделать повторный сетевой запрос, а не использовать копию из кэ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&lt;META NAME=”EXPIRES”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CONTENT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=”01-01-2018”&gt;</a:t>
            </a:r>
            <a:r>
              <a:rPr b="0" lang="ru-RU" sz="2800" spc="-1" strike="noStrike">
                <a:solidFill>
                  <a:srgbClr val="000000"/>
                </a:solidFill>
                <a:latin typeface="Ariag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трибуты тегов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&lt;META&gt;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TT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QUIV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YP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трибу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казывает кодировку ресурс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04920" y="51814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&lt;META HTTP-EQUIV =”CONTENT-TYPE”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CONTENT=”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text/html; charset=Windows-1251</a:t>
            </a:r>
            <a:r>
              <a:rPr b="0" lang="en-US" sz="2800" spc="-1" strike="noStrike">
                <a:solidFill>
                  <a:srgbClr val="000000"/>
                </a:solidFill>
                <a:latin typeface="Ariag"/>
                <a:ea typeface="Times New Roman"/>
              </a:rPr>
              <a:t>”&gt;</a:t>
            </a:r>
            <a:r>
              <a:rPr b="0" lang="ru-RU" sz="2400" spc="-1" strike="noStrike">
                <a:solidFill>
                  <a:srgbClr val="000000"/>
                </a:solidFill>
                <a:latin typeface="Ariag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де писать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-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д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ализированны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дакто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na St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obe Dreamwea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стейший текстовый редактор (Блокно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лгоритм создания веб—страниц в Блокнот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Записат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6300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лгоритм создания веб—страниц в Блокнот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охранить документ с расширением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htm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Picture 2" descr="b"/>
          <p:cNvPicPr/>
          <p:nvPr/>
        </p:nvPicPr>
        <p:blipFill>
          <a:blip r:embed="rId1"/>
          <a:stretch/>
        </p:blipFill>
        <p:spPr>
          <a:xfrm>
            <a:off x="2050920" y="3213000"/>
            <a:ext cx="554544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лгоритм создания веб—страниц в Блокнот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Просмотреть в браузе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22280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равочник по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htmlbook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таксис язы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ъекты язык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2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2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ги (управляющие конструкци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мя_тег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таксис язы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ITLE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я первая веб-страница&lt;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H1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головок страницы&lt;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1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ой текст.&lt;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таксис язы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рный тег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T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рагмент тек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арный те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T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2285640" y="2057400"/>
            <a:ext cx="6248520" cy="914400"/>
            <a:chOff x="2285640" y="2057400"/>
            <a:chExt cx="6248520" cy="914400"/>
          </a:xfrm>
        </p:grpSpPr>
        <p:sp>
          <p:nvSpPr>
            <p:cNvPr id="124" name="Line 4"/>
            <p:cNvSpPr/>
            <p:nvPr/>
          </p:nvSpPr>
          <p:spPr>
            <a:xfrm flipH="1">
              <a:off x="2285640" y="2362320"/>
              <a:ext cx="3276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25" name="Text Box 5"/>
            <p:cNvSpPr/>
            <p:nvPr/>
          </p:nvSpPr>
          <p:spPr>
            <a:xfrm>
              <a:off x="5562360" y="205740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ahoma"/>
                </a:rPr>
                <a:t>Открывающий тег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2514600" y="3429000"/>
            <a:ext cx="6095880" cy="914400"/>
            <a:chOff x="2514600" y="3429000"/>
            <a:chExt cx="6095880" cy="914400"/>
          </a:xfrm>
        </p:grpSpPr>
        <p:sp>
          <p:nvSpPr>
            <p:cNvPr id="127" name="Text Box 6"/>
            <p:cNvSpPr/>
            <p:nvPr/>
          </p:nvSpPr>
          <p:spPr>
            <a:xfrm>
              <a:off x="5638680" y="34290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ahoma"/>
                </a:rPr>
                <a:t>Закрывающий тег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 flipH="1">
              <a:off x="2514600" y="3657600"/>
              <a:ext cx="3124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таксис язы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B&gt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тег физического форматирования текста, обозначает полужирное начер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144360" y="3716280"/>
            <a:ext cx="9144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4800600"/>
            <a:ext cx="460836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т текст набран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B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ужирны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B&gt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рифтом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40384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876920" y="4800600"/>
            <a:ext cx="396216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т текст набра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лужирны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рифтом</a:t>
            </a:r>
            <a:endParaRPr b="0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876920" y="40384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ображение</a:t>
            </a:r>
            <a:endParaRPr b="0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14:29:50Z</dcterms:created>
  <dc:creator>1</dc:creator>
  <dc:description/>
  <dc:language>en-US</dc:language>
  <cp:lastModifiedBy>Инесса Брезгунова</cp:lastModifiedBy>
  <cp:lastPrinted>2001-12-10T14:03:03Z</cp:lastPrinted>
  <dcterms:modified xsi:type="dcterms:W3CDTF">2017-10-17T09:41:10Z</dcterms:modified>
  <cp:revision>140</cp:revision>
  <dc:subject/>
  <dc:title>Введение в язык HTML</dc:title>
</cp:coreProperties>
</file>