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86C1-9F02-4C8A-92D0-35C95F1CE8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7790-E490-4EEA-A0DB-EC1963972F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499B-6304-41D2-8C0B-1B975E1942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3046-9A73-4335-BC72-3BF410CE35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сих пор мы говорили об информации философски, опуская тот факт, что компьютер - это прежде всего устройство, работающее с числовой информацией. То есть привычные нам буквы, звуки и изображения компьютер переводит в удобную для себя цифровую форму. Обсудим единицы измерения компьютерной информ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реализация компьютера на электронных схемах обусловила свою специфику единиц измерения. В большинстве случаев электронные схемы могут находиться только в двух устойчивых состояниях. Поэтому одному значению приписывают значение 1, другому - 0. Таким образом, вся привычная для нас информация преобразуется в поток нулей и единиц. Поэтому наименьшей единицей измерения компьютерной информации является один бит, или один разряд, который может принимать значение 1 или 0. Следующая, более крупная единица измерения называется байт, представляющий собой группу из восьми бит. Байт используется для кодирования символьной информации. Если подсчитать количество всевозможных комбинаций нулей и единиц в восьми разрядах, получится 256. Этого количества комбинаций хватает, чтобы закодировать символы двух алфавитов, знаки препинания и некоторые специальные символ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ее укрупнение единиц измерения информации производится стандартно умножением на 1024. Так, 1 килобайт (Кб) равен 1024 байт, 1 мегабайт (Мб) равен 1024 Кб, 1 Гигабайт (Гб) равен 1024 Мб,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5BD7-784B-435D-A9A1-7E624ED156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2DB1-02E6-4A6B-8B14-90CCC23C9A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м понятие кодир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дировка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етод компьютерного представления текстовых символ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тандартно компьютер может работать со своим вариантом набора из 256 символов, составляющим кодовую таблиц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довая таблица П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бор 256 символов, каждому из которых соответствует уникальное двоичное число размером в 1 бай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166-22AC-43B3-A7E7-62649DFF3E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удим стандарты в области кодировок. Институт стандартизации США принял в качестве стандарта систему кодирования под назва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CII (American Standart Code for Information Interchang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американский стандартный код информационного обмена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система кодирования текстовых данных в СШ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В системе ASCI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ы два варианта -базовый и расширенный. Базовый ко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 для первой половины кодовой таблицы, то есть для первых 128 символов. Расширенный ко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ed ASCII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 для 256 символов. Во второй половине расширенного ко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мещены некоторый дополнительный символы немецкого языка, а также греческие симво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беспечения универсальности работы программного обеспечения первая половина кодовой таблицы остается неприкосновенной. Однако, для работы с символами русского языка нужно было разработать свои системы кодирования. К сожалению, единого стандарта кодировки кириллицы нет. Фактически, каждая операционная система имеет свой вариант кодировки. Так, на компьютерах, работающих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D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действует кодиров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 866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CP - англ. от code page, кодовая страница), также известная как "альтернативная" (ALT). В операционных системах семейства Windows кириллические символы обычно кодируются в стандарте CP1251. Кроме того, существует отдельная русская кодировка, применяемая в компьютерах Macintosh фирмы Apple. Она обычно так и обозначается - MAC. В операционных системах семейства UNIX используется русская кодировка КОИ-8. Аббревиатура КОИ расшифровывается как "Код Обмена Информацией", восьмерка обозначает, что для кодирования одного символа требуется восемь би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7F69-B3C6-4D01-9ACF-845A5E041E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более подробно устройство персонального компьютера, то есть его аппаратные средства. Персональный компьютер - это изменяемая система. Конфигурацию (состав оборудования) ПК можно изменять в соответствии с классом решаемых задач. Тем не менее есть так называемая базовая конфигурация, в которой обязательно присутствуют следующие устройства: системный блок, монитор, клавиатура, мыш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2748-E9C9-486B-BED9-CC5DECDFAB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AF5A-D5DE-41B8-A39E-B56A87E18C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EB0-4845-47F6-9C46-6C18014FFF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F240-63EA-4334-9D99-868F51B83A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0" y="41907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A8ED-A3A5-455C-B327-1854E0C17E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-360" y="43430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985-80FB-4D56-9713-5183077A2E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43430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7B5A-B84B-4329-954A-013F89C9A3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0" y="41907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A5AE-57F2-4378-9AA2-056C0E7CC5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41907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107-D37E-4B66-8992-DE2C99F635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0" y="41907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C7A-AC4E-43D8-9E8E-E1B8DED997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54D1-64A0-433C-9E06-180C0C2309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C972-B328-4A17-A630-C0E426DECE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47D-2D1B-41EA-A716-0E6D3ED2F3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4DAA-24B8-4BCE-B856-1E662D881D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6012-26DD-4928-AE11-DCFF30A006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2065-B406-430C-B7E5-576C67FC04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ьютер - это прежде всего устройство, которое работает с информацией. Человек также постоянно работает с информацией. Из окружающего мира информация поступает к нам через органы чувств: мы видим, слышим, осязаем. Дале мы эту информацию обрабатываем (этим -занимается головной мозг), если нужно запоминаем, а затем выдаем результат обработки, действуя соответствующим образом [3]. Следовательно, подобным образом  должен функционировать компьютер. Попытаемся выделить основные действия ПК по работе с информацие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 Это ввод, обработка, хранение и вывод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085-84A0-4567-AD2E-77FBEBB5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4BC-0974-4D18-B817-B449A41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756-2CC5-4580-858C-CAAB3D7B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58D-3952-466A-8C0F-10064633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4FA-A4F3-4AE2-8382-8EC81E4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3B4-F2D6-48CC-A86C-D238D925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5D7-3324-489D-849B-9E9B4E6D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A52-5E1F-4232-A4F3-E805E2B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FC4-A4B8-4D38-8946-F7B189A7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05E-E7C9-4D22-8F07-A0A81E4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92C-DD42-4074-87A0-9512467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EED-69D4-4114-B75D-CBEE7E6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97E-19CC-4AF3-86ED-88818FEB3E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3059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АППАРАТНЫЕ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И ПРОГРАММНЫЕ СРЕДСТВА ПЕРСОНАЛЬНОГО КОМПЬЮТЕР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ДСТАВЛЕНИЕ ИНФОРМ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ая информация – последовательность нулей и едини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001011010010000111111101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F555-CDE5-40BD-94CB-7D5DC4BF4C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0360-7438-4745-8C81-EB64512AE6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ДИНИЦЫ ИЗМЕРЕНИЯ ИНФОРМ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1120" y="142884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и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именьшая единица измерения величиной в один разряд, принимающее значение 0 или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ай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единица измерения величиной в восемь бит. Используется для кодирования одного из 256 симво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илобай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Кб) = 1024 бай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габай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Мб) = 1024 К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игабай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Гб) = 1024 М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рабай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Тб) = 1024 Г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табай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б) = 1024 Т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Хранение информации различного типа. Приблизительные оценк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кс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аниц, минимум иллюстраций) – 1,5 М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на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- 700 К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тограф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100 Кб – 1 М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 мин) – 1-2,5 М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иль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V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иль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lu-Ray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25 Г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компьютерна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г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до 20 Г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852A-2969-4C9E-853E-5B8F7A1AF4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EFD3-1CD5-47D0-B839-C777F3D293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ДОВАЯ ТАБЛИЦ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довая таблица П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бор, стандартно состоящий из 256 символов, каждому из которых соответствует уникальное двоичное число размером в 1 бай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(английская) 01000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3F32-DEE6-4402-B1D8-402132AEE2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Ы КОДИРОВАНИЯ СИМВО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CII (American Standard Code for Information Interchange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американский стандартный код информационного обмена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ная система кодирования текстовых данных в СШ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дировки русских символ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P 86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P 125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P KOI8-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474-666F-414E-80D8-B94BE84A0A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АЗОВАЯ КОНФИГУРАЦИЯ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119320"/>
            <a:ext cx="77724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азовая конфигурация оборудования ПК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истемный бл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они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ыш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BF8-5522-4828-9EC1-8DC388D840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7429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(системная) пл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3556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нтральный процесс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микропроцессор) - основное устройство, выполняющее все вычис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3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товая частота – количество  операций в единицу времени (2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Гц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538200" indent="-367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e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538200" indent="-367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AMD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mboard"/>
          <p:cNvPicPr/>
          <p:nvPr/>
        </p:nvPicPr>
        <p:blipFill>
          <a:blip r:embed="rId1"/>
          <a:stretch/>
        </p:blipFill>
        <p:spPr>
          <a:xfrm>
            <a:off x="7491240" y="3429000"/>
            <a:ext cx="1652760" cy="128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hip"/>
          <p:cNvPicPr/>
          <p:nvPr/>
        </p:nvPicPr>
        <p:blipFill>
          <a:blip r:embed="rId2"/>
          <a:stretch/>
        </p:blipFill>
        <p:spPr>
          <a:xfrm>
            <a:off x="7924680" y="5072040"/>
            <a:ext cx="12193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742-7C5A-4E5B-802E-99F1A223E7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85960"/>
            <a:ext cx="640872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(системная) пла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еративная памя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стродействующая память ПК, хранящая информацию при включенном питании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ыпускается модуля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размер 512 Мб, 1, 2, 4 Гб…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устанавливаемыми в специальные разъемы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ты) (от 2 до 6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Рекомендуемый объем 4-8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dimm"/>
          <p:cNvPicPr/>
          <p:nvPr/>
        </p:nvPicPr>
        <p:blipFill>
          <a:blip r:embed="rId1"/>
          <a:stretch/>
        </p:blipFill>
        <p:spPr>
          <a:xfrm>
            <a:off x="6095880" y="4000680"/>
            <a:ext cx="304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B968-512B-44DA-B11F-D55C8AE1A0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7160" y="2071440"/>
            <a:ext cx="771552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(системная) пла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истемная шин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истема проводников, посредством которых происходит передача данных и сигналов управления от одного устройства компьютера к друг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1445-E874-415F-8DC5-AF48E45277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2286000"/>
            <a:ext cx="671508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сткий дис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инчестер) -основное устройство для длительного хранения больших массивов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мкость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б – 2 Т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hdd"/>
          <p:cNvPicPr/>
          <p:nvPr/>
        </p:nvPicPr>
        <p:blipFill>
          <a:blip r:embed="rId1"/>
          <a:stretch/>
        </p:blipFill>
        <p:spPr>
          <a:xfrm>
            <a:off x="6500880" y="18572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ификация 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паратные средства П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хема 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 устройства 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раммные средства П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икладные програм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ционные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онятия файловой системы 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068A-3A89-49D7-A216-4FB73A574F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526-782C-4C86-9DE5-F2540CBE0A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71680" y="1628640"/>
            <a:ext cx="525600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лоппи-дисковод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сковод для диск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VD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M (CD-ROM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для чт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VD (CD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копитель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VD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/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W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для чтен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V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запис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 перезапис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D, DVD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VD (CD)-R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VD-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иски  с однократной записью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VD (CD)-RW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VD-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иски с многократной записью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cdrom"/>
          <p:cNvPicPr/>
          <p:nvPr/>
        </p:nvPicPr>
        <p:blipFill>
          <a:blip r:embed="rId1"/>
          <a:stretch/>
        </p:blipFill>
        <p:spPr>
          <a:xfrm>
            <a:off x="5796000" y="285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ABDA-6232-403A-BB7C-F0E3013DE5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идеокар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видеоадаптер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плата, выполняющая все операции, связанные с управлением экраном (монитором) компьюте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вуковая кар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плата, выполняющая операции по обработке зв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тевая карт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сетевая плата, сетевой адаптер) –плата для подключения компьютера к се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ACF8-07F4-4437-8F2D-EFAC1A7C8F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аптеры и контролле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устройства для связи с внешними устр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муникационные пор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специальные разъемы для подключения внешних устройств к системному бло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B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р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лок питания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ройство, содержащее системы автономного и сетевого энергопитания персонального компьют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стема охла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6159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5840" y="380880"/>
            <a:ext cx="840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НЕШНИЕ УСТРОЙСТВА П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ройства ввод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ройства вывод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ешние носител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ройства связи и передачи д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C17-61DF-420C-94D2-79D72FDBEC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СТРОЙСТВА ВВОДА ИНФОРМ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7120" y="1785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D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клавиа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н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нсорный экр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б-кам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кроф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нипулятор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ыш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кбо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чпад (сенсорная панел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етовое пе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жойс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E3D-0809-4A5F-AC77-14D79BFC35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Управляющая кнопка: далее 5"/>
          <p:cNvSpPr/>
          <p:nvPr/>
        </p:nvSpPr>
        <p:spPr>
          <a:xfrm>
            <a:off x="721512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BD1C-2042-420A-A4C6-A889FC5A3E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4240" y="1356840"/>
            <a:ext cx="77724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основное устройство для ввода текстовой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блоки клавиш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лфавитно-цифровые клавиш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лавиши управления курсором (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me, End, PageUp, PageDown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функциональные клавиши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1, F2, …., F12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лужебные клавиши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Ctrl, Alt, Shift, …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10000"/>
              </a:lnSpc>
              <a:spcBef>
                <a:spcPts val="8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складка клавиату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хема закрепления символов национального алфавита за конкретными клавиша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10000"/>
              </a:lnSpc>
              <a:spcBef>
                <a:spcPts val="8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личают проводные и беспроводные клавиату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792972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2835-9238-40BD-A296-C5F7D22B9B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НИПУЛЯТОР МЫШ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ыш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указательное устройство, используемое в графических операционных систем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сновном выполняет управляющие 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ицион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щелчок (левой или правой кнопко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ойной щелчок левой кноп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ксир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НИПУЛЯТОР МЫШ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68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ти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хани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зер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роскопи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 подклю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о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прово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ракрас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оуправляем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D8C4-94F0-427E-9374-59B32A67E3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4"/>
          <p:cNvSpPr/>
          <p:nvPr/>
        </p:nvSpPr>
        <p:spPr>
          <a:xfrm>
            <a:off x="7215120" y="65721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СТРОЙСТВА ВЫВОДА ИНФОРМ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фопостроитель (плотте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устические системы (колонки) и науш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функциональные устр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AC8D-4925-4AAE-A4C9-17A76F52D6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Управляющая кнопка: далее 4"/>
          <p:cNvSpPr/>
          <p:nvPr/>
        </p:nvSpPr>
        <p:spPr>
          <a:xfrm>
            <a:off x="757224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604F-BE82-411C-B9A7-ABF753915C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И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нито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устройство вывода и визуального представления д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К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ые характерист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мер по диагонали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22, 24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ыше дюйм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ешение  1280х10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порции экрана (4:3, 16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ол обзора 150-160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ля Ж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етопереда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28676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E127-0E16-4980-A5C4-F22553D918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сональный компьют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пьюте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устройство, выполняющее математические и логические операции над символами и другими формами информации и выдающее результаты в форме, воспринимаемой человеком или маши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пьюте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электронное устройство для обработки и хранения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сональный компьютер (ПК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назначен  для эксплуатации одним пользовател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691-5868-40C2-83CF-08322D9F5B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НТ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тер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чатающее устройство для вывода информации на бумажный носи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ти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рич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у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зе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Управляющая кнопка: назад 4"/>
          <p:cNvSpPr/>
          <p:nvPr/>
        </p:nvSpPr>
        <p:spPr>
          <a:xfrm>
            <a:off x="742968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НЕШНИЕ НОСИТЕЛИ ИНФОРМ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ета (диаметр 3,5 дюйма, емкость 1,44 М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акт-диск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(диаметр 12 см, емкость 650, 700, 800 М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 диск (диаметр 8 см, емкость 140-210 М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D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кость 4,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9,4; 17,0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D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кость 1,4 или 2,8 Г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флэш-накопитель (емкость 512 Мб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шний жесткий диск (емкость 250 Гб-1 Т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42A-1A5E-464E-B3B6-8E201C3789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8B8D-0A8D-4D7F-8E8A-AA8E4A0238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СТРОЙСТВА СВЯЗИ И ПЕРЕДАЧИ ДАННЫХ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ройств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ередачи и приема сигналов по разным линиям связи (телефонная, кабельная, радио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ут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устройство для выхода в интернет нескольких ПК через одно подключение к провайдеру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-Fi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ЕШ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703F-A379-4822-91AA-B8DE9CC3AB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точник бесперебойного питани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URS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необходим в тех случаях, когда проблема работоспособности компьютерных систем и сохранения данных стоит наиболее остро. Предназначен для фильтрации входного напряжения и защиты от короткого замык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C0F0-9CF1-4E41-BB27-7793340368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ППАРАТНЫЕ И ПРОГРАММНЫЕ СРЕД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ппаратные средства П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устройства и приборы, входящие в состав персонального компьютера (образующие его конфигурацию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граммные средства (программное обеспечение) П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овокупность программ, обеспечивающих управление аппаратными средствами и выполнение задач по обработке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ЫЕ ФУНКЦИИ ПЕРСОНАЛЬНЫХ КОМПЬЮТЕ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офисными приложен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анение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ход в интерн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мультимедиа (графика, аудио, виде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ьютерные иг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а ПО и вычис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176E-FE3F-4D1F-AB09-7F083C12FE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395-4A39-4773-930E-1EF48E7E04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АССИФИКАЦИЯ ПЕРСОНАЛЬНЫХ КОМПЬЮТЕ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108360" y="21333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 типоразмерам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ационарные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тольный компьюте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тольный мини-компьютер, неттоп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оноблок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ртативные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оутбук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ffffff"/>
                </a:solidFill>
                <a:latin typeface="Tahoma"/>
              </a:rPr>
              <a:t>мини-ноутбук (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етбук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ланшетный ПК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мартфон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АССИФИКАЦИЯ ПЕРСОНАЛЬНЫХ КОМПЬЮТЕ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680" y="2428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уровню специ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верс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зирова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8B8-BD08-41FE-BEF6-F487B36DDE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6BD-E01A-4CDC-BE7A-C72AEE7095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ЫЕ ДЕЙСТВИЯ ПК С ИНФОРМАЦИ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бо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хем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88C5-8E70-4CC1-B013-B309824A3A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1187280" y="1776240"/>
            <a:ext cx="688500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14:44:33Z</dcterms:created>
  <dc:creator>Троян Игорь</dc:creator>
  <dc:description/>
  <dc:language>en-US</dc:language>
  <cp:lastModifiedBy>Инесса Брезгунова</cp:lastModifiedBy>
  <dcterms:modified xsi:type="dcterms:W3CDTF">2018-01-08T06:29:12Z</dcterms:modified>
  <cp:revision>335</cp:revision>
  <dc:subject/>
  <dc:title>Служебные программы (утилиты)</dc:title>
</cp:coreProperties>
</file>